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3.wmf" ContentType="image/x-wmf"/>
  <Override PartName="/ppt/media/image5.png" ContentType="image/png"/>
  <Override PartName="/ppt/media/image33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36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1.jpeg" ContentType="image/jpeg"/>
  <Override PartName="/ppt/media/image10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12.png" ContentType="image/png"/>
  <Override PartName="/ppt/media/image44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8.png" ContentType="image/png"/>
  <Override PartName="/ppt/media/image6.png" ContentType="image/png"/>
  <Override PartName="/ppt/media/image4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16"/>
          </p:nvPr>
        </p:nvSpPr>
        <p:spPr>
          <a:xfrm>
            <a:off x="384768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8720" y="746280"/>
            <a:ext cx="496116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17"/>
          </p:nvPr>
        </p:nvSpPr>
        <p:spPr>
          <a:xfrm>
            <a:off x="-36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18"/>
          </p:nvPr>
        </p:nvSpPr>
        <p:spPr>
          <a:xfrm>
            <a:off x="3847680" y="9427680"/>
            <a:ext cx="2948040" cy="49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C744C0-FDFD-4118-9B01-7528F4EC6398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50760" y="71424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D0A-92FD-4D87-A6D9-C2C0C0255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9EE2-7DCB-46A0-B58E-2D3E18EC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927-8A19-4921-8AEA-46130218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0D2F-A48E-4CE0-AA01-910FBEF3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57D0F-F5B7-46E3-AE98-CCA71782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F3C1-A46A-4091-A0C1-F8012AD8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A22F-8AAA-46A3-800F-883990E0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A48AC-E360-4EF1-9728-D8955B59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3212-224A-4417-9371-B06422AF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D1C2-DF26-4F47-BB58-B70A6DA7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07BB-CD29-409F-B1C1-949B410D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5FBB-E34C-4214-AC62-663DDAD6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8A18-FB75-414D-8A12-410D1222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B77E-89C8-40A6-B60C-060AB42C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80A6-797F-49B9-890A-709C35B0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EF61-5732-41B4-BC8A-96F995DD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1945-788B-4BF6-A65C-1079C000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3C92-32AB-4854-8464-6D4793E7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0E58-7BE3-4C48-950D-3F7EE4E8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4F6E-A91C-40B5-96C6-13DE3A44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9D75D-CF13-4DC0-9918-95A221DC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4FA3B-A95A-4F31-859A-2A88548F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D8A3-FE47-45C4-830E-FB299710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D511D-61E2-483B-8335-89148E21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99B5F-F4C7-46AE-A463-FFA006A9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44CF-C8EF-4499-A524-2F5B3399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250E6-A5A0-44C9-944D-1132A5E6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BAA86-E71B-4403-9760-071D42173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5F02-5D96-4811-8F96-D1F1C889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0B7DA-47BA-4272-996C-2C2DE4B1F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20FBF6-5A32-43CF-8837-53648749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DDA23-1E86-4BD1-AD4F-C3EC86AC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A1AA-B6AD-4C97-93F3-48FC5B530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A04-9702-44A3-842F-20E18806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6EBC1-7A27-48FA-A5E4-27D0A218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2D351-1B3A-4053-BF5E-23D34A09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ACB5-A8BA-40A2-8DC0-EC65461C6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3A512-0D30-4A39-844A-67535A08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0B000-967D-4DD2-8470-B108E82A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056FF-27CD-4254-80D0-8407D73C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03156-26DB-4423-9390-B3F3C756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369F3-CD58-4AD8-BE7C-C8909F89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FA350-F1F8-4EBD-90D7-988CF81F3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96CC9-D866-4ED0-ACB7-E6C0D90A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D91-84B0-49C8-AA87-84F3EA77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8CE0A-B017-4503-B796-3846D9F3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CA94C-D143-420E-B00C-4B8F533B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8178-19B4-4B3D-B5E2-3A89948C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F311-940F-45D3-91CA-86DA0D7E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879A5-77E5-4C90-B585-BB49AB31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D9399-69D2-4745-8216-34758217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0B692-BF57-43DF-B093-24830266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71A46-4FD2-43DE-8481-408DA437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DC9B8-503B-4A64-AB3E-23633FE0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BB167-C851-4C49-B69C-68E23D60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A11-097A-4F39-8D57-780014C8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B16E9-3C1E-4BAC-AFF3-334609FF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630A-A94F-44F9-98FE-F9B1B6D2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BC3-C456-4E4B-81FA-E2FF6A92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EF23-6969-4E5E-99F6-1FD81A0C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7B36-F650-4E1C-99C3-34506695C96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群組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手繪多邊形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手繪多邊形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手繪多邊形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手繪多邊形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線接點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e8f0f4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1A73-E068-4868-AC55-451CDF56D2BF}" type="slidenum"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手繪多邊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手繪多邊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線接點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＞形箭號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＞形箭號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F722B-3242-40A5-8ADE-FDF98CF47CEF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381DB-0EEC-4AF8-8B51-37E21AC4FF84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手繪多邊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手繪多邊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直角三角形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89" name="直角三角形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直線接點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92" name="＞形箭號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＞形箭號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584E-9249-4BD2-9E52-F0CB4ADFFC69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Rectangle 6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700" spc="-1" strike="noStrike">
                <a:solidFill>
                  <a:srgbClr val="000000"/>
                </a:solidFill>
                <a:latin typeface="Lucida Sans Unicode"/>
              </a:rPr>
              <a:t>衛生署統計室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101.05.2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776920"/>
          </a:xfrm>
          <a:prstGeom prst="rect">
            <a:avLst/>
          </a:prstGeom>
          <a:ln w="0">
            <a:noFill/>
          </a:ln>
        </p:spPr>
      </p:pic>
      <p:sp>
        <p:nvSpPr>
          <p:cNvPr id="27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0201-99DE-4783-922A-D5A1A47C86A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900F-02C8-4620-8011-5ECC5B94302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0" descr=""/>
          <p:cNvPicPr/>
          <p:nvPr/>
        </p:nvPicPr>
        <p:blipFill>
          <a:blip r:embed="rId1"/>
          <a:stretch/>
        </p:blipFill>
        <p:spPr>
          <a:xfrm>
            <a:off x="0" y="836640"/>
            <a:ext cx="8817120" cy="5695920"/>
          </a:xfrm>
          <a:prstGeom prst="rect">
            <a:avLst/>
          </a:prstGeom>
          <a:ln w="0">
            <a:noFill/>
          </a:ln>
        </p:spPr>
      </p:pic>
      <p:sp>
        <p:nvSpPr>
          <p:cNvPr id="27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3BA5-2ACB-4B36-9F39-36C5620F763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22" descr=""/>
          <p:cNvPicPr/>
          <p:nvPr/>
        </p:nvPicPr>
        <p:blipFill>
          <a:blip r:embed="rId1"/>
          <a:stretch/>
        </p:blipFill>
        <p:spPr>
          <a:xfrm>
            <a:off x="0" y="907920"/>
            <a:ext cx="8848800" cy="5334120"/>
          </a:xfrm>
          <a:prstGeom prst="rect">
            <a:avLst/>
          </a:prstGeom>
          <a:ln w="0">
            <a:noFill/>
          </a:ln>
        </p:spPr>
      </p:pic>
      <p:sp>
        <p:nvSpPr>
          <p:cNvPr id="276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15FD2-9DA4-4286-BA73-DABC6024DD7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9507-9B7B-4794-8313-E323CB08281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1AA3-AC86-435A-8967-E99148FAD31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704360" cy="62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8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327640"/>
          </a:xfrm>
          <a:prstGeom prst="rect">
            <a:avLst/>
          </a:prstGeom>
          <a:ln w="0">
            <a:noFill/>
          </a:ln>
        </p:spPr>
      </p:pic>
      <p:sp>
        <p:nvSpPr>
          <p:cNvPr id="28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F1F0-7FBF-473E-98ED-208E54CF2E6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6972-C8D1-4F0D-BAC8-BEC6DF04DEC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8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69040"/>
          </a:xfrm>
          <a:prstGeom prst="rect">
            <a:avLst/>
          </a:prstGeom>
          <a:ln w="0">
            <a:noFill/>
          </a:ln>
        </p:spPr>
      </p:pic>
      <p:sp>
        <p:nvSpPr>
          <p:cNvPr id="28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ED612-99A4-4F77-BBB1-E67E9591CBB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10A9-C710-4812-9A70-7A757306186C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9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28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A25B-E2FB-4575-8ACA-D30A902E1A1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A0D28-9B3C-430D-82D9-39341A64452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10" descr=""/>
          <p:cNvPicPr/>
          <p:nvPr/>
        </p:nvPicPr>
        <p:blipFill>
          <a:blip r:embed="rId1"/>
          <a:stretch/>
        </p:blipFill>
        <p:spPr>
          <a:xfrm>
            <a:off x="295200" y="620640"/>
            <a:ext cx="8848800" cy="5705640"/>
          </a:xfrm>
          <a:prstGeom prst="rect">
            <a:avLst/>
          </a:prstGeom>
          <a:ln w="0">
            <a:noFill/>
          </a:ln>
        </p:spPr>
      </p:pic>
      <p:sp>
        <p:nvSpPr>
          <p:cNvPr id="290" name="日期版面配置區 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12/0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頁尾版面配置區 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0" lang="zh-TW" sz="1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死因統計結果記者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CC3D-B355-40E2-813B-B87499F421B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1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918040"/>
          </a:xfrm>
          <a:prstGeom prst="rect">
            <a:avLst/>
          </a:prstGeom>
          <a:ln w="0">
            <a:noFill/>
          </a:ln>
        </p:spPr>
      </p:pic>
      <p:sp>
        <p:nvSpPr>
          <p:cNvPr id="29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91FE-E8CD-4717-AC53-8B9146D53C8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DC93-B8C6-4BA7-873E-C010335FFA8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1" descr=""/>
          <p:cNvPicPr/>
          <p:nvPr/>
        </p:nvPicPr>
        <p:blipFill>
          <a:blip r:embed="rId1"/>
          <a:stretch/>
        </p:blipFill>
        <p:spPr>
          <a:xfrm>
            <a:off x="0" y="549360"/>
            <a:ext cx="8848800" cy="5810040"/>
          </a:xfrm>
          <a:prstGeom prst="rect">
            <a:avLst/>
          </a:prstGeom>
          <a:ln w="0">
            <a:noFill/>
          </a:ln>
        </p:spPr>
      </p:pic>
      <p:sp>
        <p:nvSpPr>
          <p:cNvPr id="297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224F-EA53-4254-A61A-3F22D6CDB78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2FE8-2326-4296-BAE1-EF55602DBAC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2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2411280" y="5445000"/>
            <a:ext cx="4662720" cy="797040"/>
          </a:xfrm>
          <a:prstGeom prst="rect">
            <a:avLst/>
          </a:prstGeom>
          <a:ln w="0">
            <a:noFill/>
          </a:ln>
        </p:spPr>
      </p:pic>
      <p:sp>
        <p:nvSpPr>
          <p:cNvPr id="24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20A3-D792-417F-A7F9-39A61010B47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2" descr=""/>
          <p:cNvPicPr/>
          <p:nvPr/>
        </p:nvPicPr>
        <p:blipFill>
          <a:blip r:embed="rId1"/>
          <a:stretch/>
        </p:blipFill>
        <p:spPr>
          <a:xfrm>
            <a:off x="147600" y="579600"/>
            <a:ext cx="8848800" cy="5705280"/>
          </a:xfrm>
          <a:prstGeom prst="rect">
            <a:avLst/>
          </a:prstGeom>
          <a:ln w="0">
            <a:noFill/>
          </a:ln>
        </p:spPr>
      </p:pic>
      <p:sp>
        <p:nvSpPr>
          <p:cNvPr id="300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D9DA-7A71-4B7B-89BC-56B72C837F0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4D70-B48B-48B1-893E-6E2BE5DBF832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F0D9-E6DD-4983-9262-0AD738F8B7F4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8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8207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AB05-47BC-4D70-A89C-A4126B80083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856944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15ED-6769-4FC3-814D-4239C718612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0" descr=""/>
          <p:cNvPicPr/>
          <p:nvPr/>
        </p:nvPicPr>
        <p:blipFill>
          <a:blip r:embed="rId1"/>
          <a:stretch/>
        </p:blipFill>
        <p:spPr>
          <a:xfrm>
            <a:off x="147600" y="736560"/>
            <a:ext cx="8848800" cy="53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15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541840"/>
          </a:xfrm>
          <a:prstGeom prst="rect">
            <a:avLst/>
          </a:prstGeom>
          <a:ln w="0">
            <a:noFill/>
          </a:ln>
        </p:spPr>
      </p:pic>
      <p:sp>
        <p:nvSpPr>
          <p:cNvPr id="309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90B9-B458-4090-8B1B-B91DA542577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4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8496000" cy="5597640"/>
          </a:xfrm>
          <a:prstGeom prst="rect">
            <a:avLst/>
          </a:prstGeom>
          <a:ln w="0">
            <a:noFill/>
          </a:ln>
        </p:spPr>
      </p:pic>
      <p:sp>
        <p:nvSpPr>
          <p:cNvPr id="311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E05A-184A-47D2-97D0-15C2F5442FF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4B96-C231-4BC0-93EB-6D75208D181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"/>
          <p:cNvPicPr/>
          <p:nvPr/>
        </p:nvPicPr>
        <p:blipFill>
          <a:blip r:embed="rId1"/>
          <a:stretch/>
        </p:blipFill>
        <p:spPr>
          <a:xfrm>
            <a:off x="0" y="620640"/>
            <a:ext cx="8848800" cy="562932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FC73-7302-46CE-9212-AFBED44FD10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11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488360" cy="6105600"/>
          </a:xfrm>
          <a:prstGeom prst="rect">
            <a:avLst/>
          </a:prstGeom>
          <a:ln w="0">
            <a:noFill/>
          </a:ln>
        </p:spPr>
      </p:pic>
      <p:sp>
        <p:nvSpPr>
          <p:cNvPr id="316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D715-D2B8-406E-94F7-9858B14D2A9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AE83-A9D1-4278-9B04-8F6729AB52CE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35344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投影片編號版面配置區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EB53-36F0-4A44-8D75-D112CCC28C8F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4F43-FEAE-4032-B165-E3F33FA1E89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200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2"/>
          <a:stretch/>
        </p:blipFill>
        <p:spPr>
          <a:xfrm>
            <a:off x="0" y="620640"/>
            <a:ext cx="8388360" cy="524376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>
            <a:off x="5484960" y="210960"/>
            <a:ext cx="215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慢性疾病死因占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6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0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年來事故傷害死因減幅最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B0175-64DD-4C50-B68B-73A41D2EC6F3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CCC5-BE7F-4561-9A93-8050DB75A338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9" descr=""/>
          <p:cNvPicPr/>
          <p:nvPr/>
        </p:nvPicPr>
        <p:blipFill>
          <a:blip r:embed="rId1"/>
          <a:stretch/>
        </p:blipFill>
        <p:spPr>
          <a:xfrm>
            <a:off x="0" y="765000"/>
            <a:ext cx="8848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843F-1C1A-4E48-B7DF-EF479A217391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9" descr=""/>
          <p:cNvPicPr/>
          <p:nvPr/>
        </p:nvPicPr>
        <p:blipFill>
          <a:blip r:embed="rId1"/>
          <a:stretch/>
        </p:blipFill>
        <p:spPr>
          <a:xfrm>
            <a:off x="147600" y="727200"/>
            <a:ext cx="8848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12" descr=""/>
          <p:cNvPicPr/>
          <p:nvPr/>
        </p:nvPicPr>
        <p:blipFill>
          <a:blip r:embed="rId1"/>
          <a:stretch/>
        </p:blipFill>
        <p:spPr>
          <a:xfrm>
            <a:off x="195120" y="617400"/>
            <a:ext cx="8753760" cy="5629320"/>
          </a:xfrm>
          <a:prstGeom prst="rect">
            <a:avLst/>
          </a:prstGeom>
          <a:ln w="0">
            <a:noFill/>
          </a:ln>
        </p:spPr>
      </p:pic>
      <p:sp>
        <p:nvSpPr>
          <p:cNvPr id="32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AD18-3DA8-4755-8982-ACE80ED95B0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2CA4-E629-4087-A63F-4CE8BFC8A054}" type="slidenum">
              <a:rPr b="0" lang="zh-TW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WordArt 3"/>
          <p:cNvSpPr txBox="1"/>
          <p:nvPr/>
        </p:nvSpPr>
        <p:spPr>
          <a:xfrm>
            <a:off x="2700360" y="1628640"/>
            <a:ext cx="4248000" cy="24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簡報完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標楷體"/>
              </a:rPr>
              <a:t>敬請指教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標楷體"/>
              <a:ea typeface="標楷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4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6D45-1A78-4775-986A-7BC6D02B0B9A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"/>
          <p:cNvPicPr/>
          <p:nvPr/>
        </p:nvPicPr>
        <p:blipFill>
          <a:blip r:embed="rId2"/>
          <a:stretch/>
        </p:blipFill>
        <p:spPr>
          <a:xfrm>
            <a:off x="0" y="1582560"/>
            <a:ext cx="9144000" cy="4156200"/>
          </a:xfrm>
          <a:prstGeom prst="rect">
            <a:avLst/>
          </a:prstGeom>
          <a:ln w="0">
            <a:noFill/>
          </a:ln>
        </p:spPr>
      </p:pic>
      <p:sp>
        <p:nvSpPr>
          <p:cNvPr id="257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7782-DAC3-4615-8A8D-E485A2817976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4" descr=""/>
          <p:cNvPicPr/>
          <p:nvPr/>
        </p:nvPicPr>
        <p:blipFill>
          <a:blip r:embed="rId1"/>
          <a:stretch/>
        </p:blipFill>
        <p:spPr>
          <a:xfrm>
            <a:off x="24912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2"/>
          <a:stretch/>
        </p:blipFill>
        <p:spPr>
          <a:xfrm>
            <a:off x="612720" y="1503360"/>
            <a:ext cx="7916760" cy="3857760"/>
          </a:xfrm>
          <a:prstGeom prst="rect">
            <a:avLst/>
          </a:prstGeom>
          <a:ln w="0">
            <a:noFill/>
          </a:ln>
        </p:spPr>
      </p:pic>
      <p:sp>
        <p:nvSpPr>
          <p:cNvPr id="260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BCA0E-F199-4E85-8D92-9AA72E760C0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2"/>
          <a:stretch/>
        </p:blipFill>
        <p:spPr>
          <a:xfrm>
            <a:off x="612720" y="2106720"/>
            <a:ext cx="7916760" cy="3051000"/>
          </a:xfrm>
          <a:prstGeom prst="rect">
            <a:avLst/>
          </a:prstGeom>
          <a:ln w="0">
            <a:noFill/>
          </a:ln>
        </p:spPr>
      </p:pic>
      <p:sp>
        <p:nvSpPr>
          <p:cNvPr id="263" name="投影片編號版面配置區 1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E42E-F08F-4C80-80AC-D202FB973E47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投影片編號版面配置區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F227-7D35-4CE2-AAAB-DCB32E44CEC9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26C0-4259-4CA7-8528-496BB7E95170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"/>
          <p:cNvPicPr/>
          <p:nvPr/>
        </p:nvPicPr>
        <p:blipFill>
          <a:blip r:embed="rId1"/>
          <a:stretch/>
        </p:blipFill>
        <p:spPr>
          <a:xfrm>
            <a:off x="147600" y="687240"/>
            <a:ext cx="884880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2684-AFB2-4264-B5D2-3593DFB5797D}" type="slidenum">
              <a:rPr b="0" lang="zh-TW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1887480" y="426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1"/>
          <a:stretch/>
        </p:blipFill>
        <p:spPr>
          <a:xfrm>
            <a:off x="152280" y="741240"/>
            <a:ext cx="88394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5:22:00Z</dcterms:created>
  <dc:creator>行政院衛生署</dc:creator>
  <dc:description> </dc:description>
  <cp:keywords>民國100年死因記者會簡報</cp:keywords>
  <dc:language>en-US</dc:language>
  <cp:lastModifiedBy>ASUS</cp:lastModifiedBy>
  <dcterms:modified xsi:type="dcterms:W3CDTF">2012-05-23T20:01:33Z</dcterms:modified>
  <cp:revision>463</cp:revision>
  <dc:subject>衛生署中英文網站</dc:subject>
  <dc:title>民國100年死因記者會簡報</dc:title>
</cp:coreProperties>
</file>